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BFDC7-C803-4E8D-B672-8A9F3865B7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0C5D9-D4B9-4D85-B59E-8C9D6663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0C39B-916D-4710-9A9A-0E93FC47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FC778-3AE3-407A-98F4-E9C1A183CA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F485D-29EE-407C-99FF-F4F22571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E62EE-93C0-412F-8BF6-DB86ED71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93FE0-EC40-4191-9F23-42DBFC7F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20F39-D2BD-4C21-A128-EFC0F79F2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B5537-228F-429D-87EE-47925E4BC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E063A-C9B0-4BD2-9F9E-DEF73EFF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45CEF-08B0-4869-A868-31715015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C8386-CA23-4F67-9741-D70F6C3C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4F37-C1D6-4145-84FE-851AA2252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Fuel cell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by The Science Museu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what you know about fuel cells and how they work. Try to answer the questions in exercise 1 on the worksh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listen for the answers to the questions in exercise 1 on the worksh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ck your answers in your pair/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2 on the worksheet: match the captions with the correct pi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on the worksheet: complete the gap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acmillan Staff Member</cp:lastModifiedBy>
  <dcterms:modified xsi:type="dcterms:W3CDTF">2008-09-15T08:07:38Z</dcterms:modified>
  <cp:revision>35</cp:revision>
  <dc:subject/>
  <dc:title>  </dc:title>
</cp:coreProperties>
</file>